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CD1-777B-4913-A2AC-EE578893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ED0-700C-4AE2-91A6-1C733F37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E29-D113-4CDD-A80C-D16BE953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17C-FBB5-4F2E-AA1B-4DA89BDA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7572-2B04-41E2-81C9-7CE475D3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DFC2-BCB3-4906-920E-EFFB1316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44C-B4C1-4F0C-89A8-EA9871CE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818B-4E9A-46AC-9C0C-ADD4B7B1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7562-5595-4E03-BA85-CB06A7FF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9BAD-43A6-41D7-9EB2-50C97C4B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34A8-FBCF-4C54-A56F-01C4883C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5FB-F98E-4202-AD9C-661E0299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FCF8-8ACA-4E11-A5E8-724B23F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2F0D-79EB-4414-B046-842A5620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72FF-D4A8-4D93-9ECE-B6FF9122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5D8F-B149-47F6-9EA0-52B2C6DF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CFE5-E714-4724-86EF-0086B634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110-D177-4EA3-B2FC-D8535217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9BB-7181-4329-8156-FCC7D637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287-42F5-4481-930A-B612FD59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73B-ED12-4626-AA9C-E911FAF0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38E-C02E-4395-8880-92C388AF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DEE-997E-401A-ABD5-F69DA746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9BA-4242-4E10-89DD-E9F0399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38C1-5223-4721-A2F5-530C742E6DDA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5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109-B2CE-4FCA-95B9-CCB78CB1A652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Garamond"/>
              </a:rPr>
              <a:t>“</a:t>
            </a:r>
            <a:r>
              <a:rPr b="1" lang="en-US" sz="5000" spc="-1" strike="noStrike">
                <a:solidFill>
                  <a:srgbClr val="ffff00"/>
                </a:solidFill>
                <a:latin typeface="Garamond"/>
              </a:rPr>
              <a:t>Go Tell The Good News”</a:t>
            </a:r>
            <a:br>
              <a:rPr sz="5000"/>
            </a:br>
            <a:endParaRPr b="1" lang="en-US" sz="5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rter 11, Lesson 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Church Is Scatte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cts 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ges 40-4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9454-8661-452A-9D24-DC2361147571}" type="slidenum">
              <a:t>1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eter and John Return to Jerusalem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25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fter preaching the word of the Lord, they returned home but, on the way..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tinued to preach the gospel in cities of the Samarit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226-3CCF-458E-9902-5CE31754B38D}" type="slidenum">
              <a:t>10</a:t>
            </a:fld>
          </a:p>
        </p:txBody>
      </p:sp>
    </p:spTree>
  </p:cSld>
  <p:transition spd="med"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The Ethiopian Eunuch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26-40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thiopia, a country south of Egyp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ably dark-skin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unique Jewish prosely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nted as a Jew in relig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not participate in public worsh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d great authority from his gover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easurer for Queen Canda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andace seemed to be a title passed from one queen to another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as returning home - on the road to Ga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5F5-52DC-42FA-B6B5-1413E0C7B4DB}" type="slidenum">
              <a:t>11</a:t>
            </a:fld>
          </a:p>
        </p:txBody>
      </p:sp>
    </p:spTree>
  </p:cSld>
  <p:transition spd="med">
    <p:wipe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hilip Preaches To The Eunuch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26-40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angel told Philip to go south toward Ga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pirit directed him to the eunu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nuch was reading from Isaiah 53:7-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d not understand the prophe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ked who Isaiah was talking abo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 preached Jesus to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he saw water he said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prevents me from being baptized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believe Jesus Christ is the Son of God.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FED-32AB-4522-A3B6-21796C59493C}" type="slidenum">
              <a:t>12</a:t>
            </a:fld>
          </a:p>
        </p:txBody>
      </p:sp>
    </p:spTree>
  </p:cSld>
  <p:transition spd="med"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The Eunuch Was Baptized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ct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8:26-40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nuch stopped the chariot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and Philip went down into the wa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unuch was baptized, 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nt his way rejoic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pirit caught away Philip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 was found at Azot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ed preac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nt to Caesare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nuch took the message to Ethiop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67A-AD93-4592-9A0A-033E25ADB43F}" type="slidenum">
              <a:t>13</a:t>
            </a:fld>
          </a:p>
        </p:txBody>
      </p:sp>
    </p:spTree>
  </p:cSld>
  <p:transition spd="med">
    <p:wipe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Garamond"/>
              </a:rPr>
              <a:t>The Good News Now Spreads To...</a:t>
            </a:r>
            <a:endParaRPr b="1" lang="en-US" sz="3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ma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thiop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ember Acts 1:8 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..you shall be My witnesses both in Jerusalem, and in all Judea and Samaria, and even to the remotest part of the earth.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17E-2194-4F97-AC04-4D7CCCCCAC31}" type="slidenum">
              <a:t>14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Severe Persecution Arose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1-4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phen put to death for preaching the tru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young man named Saul introduc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Jewish n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greed heartily with the action of the counc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tnessed the stoning of Step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leader of the persec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nt house to house putting believers in pri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ecution designed to destroy the chur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used a scattering of the disciples to the rest of Judea and Sama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787-25A7-4640-B649-01884051511B}" type="slidenum">
              <a:t>2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048120" y="2971800"/>
            <a:ext cx="9144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4343400"/>
            <a:ext cx="91440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4114800"/>
            <a:ext cx="609480" cy="228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1752480"/>
            <a:ext cx="25146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ember Acts 1:8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..you shall be My witnesses both in Jerusalem, and in all Judea and Samaria, and even to the remotest part of the eart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B1C-D6B5-4F80-B022-EF2177CBACA7}" type="slidenum">
              <a:t>3</a:t>
            </a:fld>
          </a:p>
        </p:txBody>
      </p:sp>
    </p:spTree>
  </p:cSld>
  <p:transition spd="med"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hilip Preaches In Samaria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4-24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se scattered preached the wo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, one of the seven, went to Sama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apostles had laid their hands upon him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Acts 6:6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ked miracles – cast out unclean spirits, healed the l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ople rejoic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 met Simon, the sorcer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on had amazed the people with trickery for a long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99D-371E-45E5-9F8E-CD55A05D9889}" type="slidenum">
              <a:t>4</a:t>
            </a:fld>
          </a:p>
        </p:txBody>
      </p:sp>
    </p:spTree>
  </p:cSld>
  <p:transition spd="med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Simon Believes The Word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9-13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s called, “The Great Power of God” by the people – he claimed to be a great 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 preach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kingdom of God, an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name of Jesus Chri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en and women, including Simon, believed and were baptiz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on was amazed at the miracles Philip perfor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847-0CC1-4DF4-B95A-7189D2206EDF}" type="slidenum">
              <a:t>5</a:t>
            </a:fld>
          </a:p>
        </p:txBody>
      </p:sp>
    </p:spTree>
  </p:cSld>
  <p:transition spd="med"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eter and John Visit Samaria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14-24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apostles sent them to Samar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son – to impart the Holy Spirit upon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id their hands on many that were baptized and prayed the Spirit would come upon th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on wanted the authority to impart the Holy Spirit to ot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ffered them money for the privile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 was told the gift of God cannot be bought with mone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DAA-C841-4F3B-B957-447D1C1C9175}" type="slidenum">
              <a:t>6</a:t>
            </a:fld>
          </a:p>
        </p:txBody>
      </p:sp>
    </p:spTree>
  </p:cSld>
  <p:transition spd="med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Peter and John Visit Samaria</a:t>
            </a:r>
            <a:br>
              <a:rPr sz="4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cts 8:20-24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chastised Sim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on had an attitude (heart) probl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ld to repent and to pray to God that his intentions (sin) may be forgiv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on repented and asked them to pray for hi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E4E-2909-49FB-975E-B1C63AD6CDA0}" type="slidenum">
              <a:t>7</a:t>
            </a:fld>
          </a:p>
        </p:txBody>
      </p:sp>
    </p:spTree>
  </p:cSld>
  <p:transition spd="med"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Lessons To Be Learned...</a:t>
            </a: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ing baptized did not automatically bring the ability to work mirac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ip preached and worked miracles but did not have authority to lay his hands on others to impart the Spir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pirit was given b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aven (God or Chri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uke 9:1; Luke 10:17; Acts 2:4; Acts 9:17; 10:44-4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ying on of the apostles’ ha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s 6:6, 8:17, 19:6; 2 Tim. 1: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BE8-877A-4404-8689-43623EEE5073}" type="slidenum">
              <a:t>8</a:t>
            </a:fld>
          </a:p>
        </p:txBody>
      </p:sp>
    </p:spTree>
  </p:cSld>
  <p:transition spd="med">
    <p:wipe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Garamond"/>
              </a:rPr>
              <a:t>Lessons To Be Learned...</a:t>
            </a:r>
            <a:endParaRPr b="1" lang="en-US" sz="4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pirit was given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liver the message of G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rm the message with sig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ember that these people did not have the complete word of God as we do to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on sinned after being baptiz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afbf3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ld to repent and pray for forgive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B8A-368A-4511-A04A-1BE312B50DD7}" type="slidenum">
              <a:t>9</a:t>
            </a:fld>
          </a:p>
        </p:txBody>
      </p:sp>
    </p:spTree>
  </p:cSld>
  <p:transition spd="med"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5:47:12Z</dcterms:created>
  <dc:creator>Frank D Vines</dc:creator>
  <dc:description/>
  <dc:language>en-US</dc:language>
  <cp:lastModifiedBy>Frank D Vines</cp:lastModifiedBy>
  <dcterms:modified xsi:type="dcterms:W3CDTF">2007-01-28T05:43:33Z</dcterms:modified>
  <cp:revision>18</cp:revision>
  <dc:subject/>
  <dc:title>“Go Tell The Good News” The Life of Christ</dc:title>
</cp:coreProperties>
</file>